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52DFB-DB58-4E64-87D5-CE6604D65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DBC1E-DC00-49A5-B7C3-0D876BCB5F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7B52E-446B-40F5-81D3-D9C48D9F1F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DD3D3-8CBC-46F0-BF1E-47E65A4943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9D2FD-89E1-4101-8E59-91BE6258D9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6FF8F-F5DD-4436-9EF0-F8BC803C8B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22B0B-231A-4735-BBD4-37169F81A2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122F9-CCF4-46B7-8E89-94976D4031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A1DA8-78F4-4187-BDE4-676F0935C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CEE7F-CE18-4E0C-942A-756704B91D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95D69-DB11-4ED9-A37A-6B0FB32ED4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F2052-F3C4-42CA-8C08-0AE6EF3EC5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7A22-A7AF-470C-AC70-9A8D6A99C28A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227320"/>
            <a:ext cx="86040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Control – We Have a Problem…E-Notification</a:t>
            </a: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aig Farney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35680" y="3479760"/>
            <a:ext cx="20257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71680" y="11808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ondition Code in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rading Partner not found, set code t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Invalid Data, set code t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x, set code to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Translator-Generated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ap Not Found, bypass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issing Mandatory Element, continue and Log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ondition Code &lt; 4, Successful Translat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ondition Code &gt; x, perform or do not perform nex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o Process Log during each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0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3360" y="11664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s reach of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 about it w/o having to look at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have to be a programmer to find out what happ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upply more detailed and customized content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expanded to deliver other informa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rts, etc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7040" y="11664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ification Techniq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rocesses that are dedicated to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= x, execute notification process step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&lt; y, execute notification process step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before or after certain process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Translation step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on completion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can be used to generate content of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us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 process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97 Reports / Late No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rogate DI PRTFILE for Translation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567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61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5440" y="11361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e / operator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nt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-Line Application to view Process Not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67960" y="1776240"/>
            <a:ext cx="7193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Error Mess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non-zero return code has been issued by job E4JLBX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review each non-zero job step to determine if this is just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rning or an actual err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776240"/>
            <a:ext cx="8643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Status Rep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llowing are the summary totals and dollars by trading partn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tner Name             Total Invoices   Total         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NK OF AMERIC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6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$205,620.44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NERAL MOTORS                18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$152.25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135,077.27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ACCEP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14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340,849.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REJEC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                $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4800" y="1776240"/>
            <a:ext cx="8126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997 Late No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TENTION: GENERAL MO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r records indicate the following Functional Acknowledgements (FA997s) have not been received for the invoice (811) transac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you have not retrieved your invoices within the last 7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lease do so.  Should you be experiencing any problems, p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act us.  We will be happy to assist y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Invoices sent on May 22,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SA/GS CONTROL NUMBERS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NO INVOICES SENT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MUNICATIONS METHOD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NTH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y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6960" y="1319040"/>
            <a:ext cx="798840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82160" y="1288800"/>
            <a:ext cx="824724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JCL for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44440" y="1669680"/>
            <a:ext cx="74851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EMCNTL-REC.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KEY.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ID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SEQ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9(9).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EMAIL-ADDRES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THE-REST-GEN.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PARTNER-NAME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ISA-ID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15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BILLING-SYS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4).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PORT-NAME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FILLER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light Control We Have a Problem...E-Notificatio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2157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ons why to explore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g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s and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/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4800" y="1287000"/>
            <a:ext cx="81108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ding Partner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TPCNTRL-RE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K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TPCNTRL-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COMM-METHO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CD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CD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DIRECT-CONNECT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DI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EMAIL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EML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FTP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FTP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VAN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VAN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PTNR-EMAIL-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END-FILE-READY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997-LATE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TAT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A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IN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I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INACTIVATE-D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2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1062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human interven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reduce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can be addressed before someone gets around to looking at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data more quickly and comply with Service Level Agre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1200" y="11505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invalid or incomplete data to a ‘recycle’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containing details of what was recycled and w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‘recycle’ file during normal process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ata has been corrected it will be processed next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when ‘recycle’ file has been successfully 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Email and Trading Partner Control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cycle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processing for JUL03 had rejected transactions do to incomplete FTP Set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ollowing FTP files were placed on ho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-run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reprocessing job E4JEFTPS released the following files from FTP hold and distributed them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hallenges and Opportuniti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line between too much, and too little information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want an Email System that also does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ous levels of de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 communications vs. External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3720" y="16257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 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asons Why to Explore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a better way to be notified of Production Job / Process Failures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be proactive in reacting to minor failur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manual process controls and audits that could be automated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isparate / Multip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deliver information to many people - some may not have access to cor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 (S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enefits of E-Notific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active instead of re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single interface for problem determination /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time needed to solve a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historical audit of system / process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tag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2920" y="1463760"/>
            <a:ext cx="200628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ss 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83000" y="1447920"/>
            <a:ext cx="189540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60920" y="1447920"/>
            <a:ext cx="19508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38840" y="1447920"/>
            <a:ext cx="20066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an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tomated re-run and corr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7720" y="1967040"/>
            <a:ext cx="4253040" cy="606240"/>
          </a:xfrm>
          <a:custGeom>
            <a:avLst/>
            <a:gdLst>
              <a:gd name="textAreaLeft" fmla="*/ 664560 w 4253040"/>
              <a:gd name="textAreaRight" fmla="*/ 3721680 w 4253040"/>
              <a:gd name="textAreaTop" fmla="*/ 151560 h 606240"/>
              <a:gd name="textAreaBottom" fmla="*/ 454680 h 606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Tahoma"/>
              </a:rPr>
              <a:t>Volume / Complex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760" y="56160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Information about each step execu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or Single Process Lo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run statistics / performanc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s process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s warnings or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Historical 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704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Cont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Name/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proc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ning / 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or Outp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RTFILE / FFSEX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97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84320" y="1166760"/>
            <a:ext cx="8899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****************************************************************************************************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START DT: 07/23/03  START TM: 11:06:04 JOB: E4JFARXS (TEST&amp;PROD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APPED RECORDS REA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33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DER RECORDS DROPP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000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CHANGES PROCESS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026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PED RECORDS WRITTEN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9290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 END  DT: 07/23/03  END  TM: 11:06:06  RECS PROC:      1337  RETN CODE: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s process flow by using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/ bypass step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s basic O/S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written to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2:11Z</dcterms:modified>
  <cp:revision>959</cp:revision>
  <dc:subject/>
  <dc:title>IBM Software Group</dc:title>
</cp:coreProperties>
</file>